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A09-22B7-4B52-BC3F-2F9747DD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221-E4CB-4B34-8312-A416803B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71F-2794-440E-905F-3D66DCA2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66D-5BD2-4201-B7A3-3C8342D4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07C-3D2D-456D-B2B7-46011FA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46C-2084-464F-8E6D-F567162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C19-F6B0-4BC8-90CA-F362E2C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AE6-9E62-4B6D-A656-5B206C4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9D3-1819-4B8A-9A27-0045AE2B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FC8-23A1-4920-94C2-3757048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21B-A5FA-41BB-B07C-AED5566E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EC2-70E4-4177-8562-BB923D4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3896-8CD2-4100-9ACC-C455EAE0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f/Cotton_gin_harper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llio Post Test Ma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6400800"/>
            <a:ext cx="528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age:http://commons.wikimedia.org/wiki/File:Cotton_gin_harp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04920"/>
            <a:ext cx="6705360" cy="509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208764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oughout the early to mid-1800’s, the Lowell factory system primarily employ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895480"/>
            <a:ext cx="5105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208764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as a major effect of the introduction of the cotton gi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93726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ine in the southern slav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cline in the size of southern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cotto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the import of manufactured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2743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23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the Cotton Mill change people’s lives in the United States? </a:t>
            </a:r>
            <a:br>
              <a:rPr sz="3200"/>
            </a:br>
            <a:br>
              <a:rPr sz="1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heck all of the ways the Cotton Mill changed people’s liv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3440" y="3336840"/>
            <a:ext cx="93726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more jobs in factories for young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more jobs in factories for sla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greater demands on southern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ed in a decline in mill job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2:10:14Z</dcterms:created>
  <dc:creator>Magner</dc:creator>
  <dc:description/>
  <dc:language>en-US</dc:language>
  <cp:lastModifiedBy>Magner</cp:lastModifiedBy>
  <dcterms:modified xsi:type="dcterms:W3CDTF">2009-08-30T22:06:40Z</dcterms:modified>
  <cp:revision>6</cp:revision>
  <dc:subject/>
  <dc:title>Slide 1</dc:title>
</cp:coreProperties>
</file>